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E5DC-EAFC-4547-A723-FF36B914C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32CB-4212-4B43-B83D-3A0F34B78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227-E05B-4989-AF8F-705D22E2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431-FDB3-4304-8B77-BB9BADE6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872-AAC4-49B2-89E1-CEAB1BAA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43D-3499-4979-93FF-036E73EA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EEC-6F8C-44BE-945F-BF1A7CEF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C94-74C2-400A-A1BF-656BBF9D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AFB-E4AA-42C6-A376-91EC42A2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A27-6931-489A-93AC-CF1A678E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9D0-E76F-4977-989C-2561CE27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6D3-C5C3-4B1A-87E5-7D7A4764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137-B775-4F98-A495-AB545EB7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454-309A-4814-9054-DB30E2D6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37F4-BA68-4AE3-8998-65E3045F6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mie Me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mie Medin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e llamo es Jamie.  Yo vivo en Woodside, New York.  Tengo 14 años.  Tengo dos hermanos. Yo soy feliz!!!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2590920"/>
            <a:ext cx="592200" cy="76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Ami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Jam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@Amina Puedes vener a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Ay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9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819520" y="1905120"/>
            <a:ext cx="373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! Como estas amigas y 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0"/>
          <a:stretch/>
        </p:blipFill>
        <p:spPr>
          <a:xfrm>
            <a:off x="838080" y="57913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Photo on 12-3-12 at 9.46 AM.jpg"/>
          <p:cNvPicPr/>
          <p:nvPr/>
        </p:nvPicPr>
        <p:blipFill>
          <a:blip r:embed="rId11"/>
          <a:stretch/>
        </p:blipFill>
        <p:spPr>
          <a:xfrm>
            <a:off x="2057400" y="3276720"/>
            <a:ext cx="53964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6:01Z</dcterms:modified>
  <cp:revision>104</cp:revision>
  <dc:subject/>
  <dc:title>Profile</dc:title>
</cp:coreProperties>
</file>